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4585-96E2-4557-AD6C-D1E231F0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CB09-2096-4E7F-AEB7-EBDEE52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B43D-E9DD-4450-A4B5-83B795E4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2C59-2CE9-4115-B164-0219CB00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920B-6E9F-4A4A-84BF-ACA9FC52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3E98-9C21-4833-BA13-EAAC57B5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8C92-E4FE-4442-8EE0-A0CB31AA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E8D9-D566-4FD6-B2AA-4A4FDD0F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A322-F422-4BE4-933E-CBB6E6D2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72C9-DD4C-4A56-A709-35823255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D54-AA50-415A-9C45-1DAE1325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F025-175D-4695-B0C1-488120A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C4E4-A070-468E-82EA-9F998CE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C87-D154-4F9E-A4E3-F721929E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6920-2D8E-48EA-944E-D35BF95F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EEDC-0160-4CF4-B223-FA129257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43AB-F92A-4282-86AC-558FBEED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968E-2CE7-4936-8F02-E784263F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5397-BE31-4141-93A1-2AD172F2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40C3-B66B-4653-99CD-F743FB6C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503C-0513-450E-8E4A-08DD5DA1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1FD1-CDA0-483A-9B79-061AA50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8A0E-B0F0-413E-902A-982CC43D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1CDD-8CDE-4AA0-8BF4-8F6C2183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86BA-9149-4E65-91A3-9696F892DBF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D3CC-6B83-40A6-8306-525D810CD86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8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9 de octubre del 2012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1: ¿</a:t>
            </a: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Como repasamos para el examen 1 del próximo viernes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Rewrite using the preterite and PO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Martin usa los anteojos de sol en la play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¡Tenemos la tarea completa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¿Compras libros en la biblioteca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Yo no miro el noticiero </a:t>
            </a:r>
            <a:r>
              <a:rPr b="0" i="1" lang="es-ES_tradnl" sz="2000" spc="-1" strike="noStrike">
                <a:solidFill>
                  <a:srgbClr val="003300"/>
                </a:solidFill>
                <a:latin typeface="Arial"/>
              </a:rPr>
              <a:t>(tv news)</a:t>
            </a: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¿Esperas a tus amigos después de las clases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1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studia para el examen el Proximo viernes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ografia (pais, capital, nacionalidad, ubicacion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Verbos (presente, preterito, preterito SER/IR, preterito –CAR, -GAR, -ZAR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nombres de Objeto Directo (lo, la, los ,las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20:53:51Z</dcterms:created>
  <dc:creator>Helen Zumaeta</dc:creator>
  <dc:description/>
  <dc:language>en-US</dc:language>
  <cp:lastModifiedBy>Helen Zumaeta</cp:lastModifiedBy>
  <dcterms:modified xsi:type="dcterms:W3CDTF">2012-10-19T17:51:46Z</dcterms:modified>
  <cp:revision>10</cp:revision>
  <dc:subject/>
  <dc:title>Me llamo __________ Clase 8IM La fecha es el 19 de octubre del 2012</dc:title>
</cp:coreProperties>
</file>